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6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media/image27.wmf" ContentType="image/x-wmf"/>
  <Override PartName="/ppt/media/image23.wmf" ContentType="image/x-wmf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922-E820-48A7-81DB-902B64B3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D04-F35C-4D05-99EB-817AC8DC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ABE-59BA-45AC-9A66-7696334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5C2-73BA-484A-B681-7AAAE859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6CF-BA2B-4173-B497-2FB9C8FC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4AE-3628-47BE-AEEE-53DC0C69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134-3697-4E13-AA9F-274416F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E647-22D6-4831-80F9-2190428E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7830-D4D9-4FAC-A797-A536FE7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A40-CB01-47D4-A26B-DBAE5FD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9EB-6798-4639-BD65-534A5AE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312-2D65-48A8-B71A-27DBF715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8B86-1137-4615-8B61-58FBCF4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291-66EE-4731-ABBD-6FFD202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5E45-6303-4671-A5DD-515DB510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E40E-4821-40A6-9186-82BD2612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8FB3-6621-4150-B5D6-F4C8901B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FDD-0BE9-4687-946B-2DFDE2CC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BCA-3424-4665-A461-BC510A2F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DD8-D828-4A20-B138-18D0F32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C8E-AAA4-40F7-B885-F5E9FE4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8FF-47A6-48E8-AAB1-BC2A103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DEE-2AA7-428D-B77D-F625946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A9B-776D-41B2-BCCF-C03758A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59A-76E7-4EBE-B301-C7F756D6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13CF-16AB-460C-A2B0-0431CCA1907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 Op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nge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inge pattern formed from a Young’s Double Slit Experiment would look like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right areas represent con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rk areas represent de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224320" y="406440"/>
            <a:ext cx="39196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ructive interference occurs at the center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wo waves travel the same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, they arrive i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ig 24-03a"/>
          <p:cNvPicPr/>
          <p:nvPr/>
        </p:nvPicPr>
        <p:blipFill>
          <a:blip r:embed="rId1"/>
          <a:stretch/>
        </p:blipFill>
        <p:spPr>
          <a:xfrm>
            <a:off x="4495680" y="2057400"/>
            <a:ext cx="44593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has to travel farther than the low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travels one wavelength far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the waves arrive in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ight fringe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Fig 24-03b"/>
          <p:cNvPicPr/>
          <p:nvPr/>
        </p:nvPicPr>
        <p:blipFill>
          <a:blip r:embed="rId1"/>
          <a:stretch/>
        </p:blipFill>
        <p:spPr>
          <a:xfrm>
            <a:off x="4379760" y="2133720"/>
            <a:ext cx="4611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travels one-half of a wavelength farther than the low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ough of the bottom wave overlaps the crest of the upp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de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ark fringe occ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Fig 24-03c"/>
          <p:cNvPicPr/>
          <p:nvPr/>
        </p:nvPicPr>
        <p:blipFill>
          <a:blip r:embed="rId1"/>
          <a:stretch/>
        </p:blipFill>
        <p:spPr>
          <a:xfrm>
            <a:off x="4419720" y="2057400"/>
            <a:ext cx="45352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th difference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, is found from the tan tri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–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d sin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is assumes the paths are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ot exactly parallel, but a very good approximation since L is much greater than 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267080" y="2400480"/>
          <a:ext cx="468792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400480"/>
                    <a:ext cx="46879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bright fringe, produced by constructive interference, the path difference must be either zero or some integral multiple of the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δ = d sin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brigh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= m 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 = 0, ±1, ±2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order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When m = 0, it is the zeroth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When m = ±1,  it is called the first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itions of the fringes can be measured vertically from the zeroth order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 = L t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si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L&gt;&gt;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d&gt;&gt;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pproxi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is small and therefore the approxim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can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structive interference occurs, a dark fringe is ob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eds a path difference of an odd half wave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δ = d sin 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da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= (m + ½) 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bright fri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dark fri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600200" y="2666880"/>
          <a:ext cx="54324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432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5"/>
          <p:cNvGraphicFramePr/>
          <p:nvPr/>
        </p:nvGraphicFramePr>
        <p:xfrm>
          <a:off x="1676520" y="4495680"/>
          <a:ext cx="627516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62751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es for Young’s Double Slit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ng’s Double Slit Experiment provides a method for measuring wavelength of the l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experiment gave the wave model of light a great deal of cred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nconceivable that particles of light could cancel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Opt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 nature of light is needed to explain various phenome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rticle nature of light was the basis for ray (geometric) op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loyd’s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rangement for producing an interference pattern with a single light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 reach point P either by a direct path or by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flected ray can be treated as a ray from the source S’ behind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Fig 24-05"/>
          <p:cNvPicPr/>
          <p:nvPr/>
        </p:nvPicPr>
        <p:blipFill>
          <a:blip r:embed="rId1"/>
          <a:stretch/>
        </p:blipFill>
        <p:spPr>
          <a:xfrm>
            <a:off x="4267080" y="2133720"/>
            <a:ext cx="4535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 from the Lloyd’s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nterference pattern is form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sitions of the dark and bright fringes ar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vers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elative to pattern of two real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is because there is a 180° phase change produced by the ref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 Due To Refl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lectromagnetic wave undergoes a phase change of 180° upon reflection from a medium of higher index of refraction than the one in which it was trave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ous to a reflected pulse on 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114800" y="2666880"/>
          <a:ext cx="4952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666880"/>
                    <a:ext cx="4952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 Due To Refle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no phase change when the wave is reflected from a boundary leading to a medium of lower index of ref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ous to a pulse in a string reflecting from a free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962520" y="2514600"/>
          <a:ext cx="495288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514600"/>
                    <a:ext cx="49528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ference effects are commonly observed in thin fil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s are soap bubbles and oil on wat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interference is due to the interaction of the waves reflected from both surfaces of the fil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s to re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lectromagnetic wave traveling from a medium of index of refrac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ward a medium of index of refrac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dergoes a 180° phase change on reflection 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no phase change in the reflected wave i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ligh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 in a medium with index of refraction n is 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λ/n where λ is the wavelength of light in vacu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 1 undergoes a phase change of 180° with respect to the incident 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 2, which is reflected from the lower surface, undergoes no phase change with respect to the incident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77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2 also travels an additional distance of 2t before the waves recomb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on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t = (m + ½ 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m = 0, 1, 2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into account both the difference in optical path length for the two rays and the 180° phas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struction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n t = 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m = 0, 1, 2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5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factors influenc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phase reversals on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ces in travel d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ditions are valid if the medium above the top surface is the same as the medium below the bottom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thin film is between two different media, one of lower index than the film and one of higher index, the conditions for constructive and destructive interference a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ve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sure to include two effects when analyzing the interference pattern from a thin fil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ght waves interfere with each other much like mechanical waves 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interference associated with light waves arises when the electromagnetic fields that constitute the individual waves comb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Ring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viewing interference is to place a planoconvex lens on top of a flat glas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film between the glass surfaces varies in thickness from zero at the point of contact to some thickness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ttern of light and dark rings is ob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rings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wton’s 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rticle model of light could not explain the origin of the 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Rings can be used to test optical l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y with Thin Films,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thin film causing the interfe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indices of refraction in the film and the media on either side of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number of phase reversals: zero, one or tw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Thin Film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ference is constructive if the path difference is an integral multiple of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λ and destructive if the path difference is an odd half multiple of 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conditions are reversed if one of the waves undergoes a phase change on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Thin Film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2362320"/>
          <a:ext cx="8574120" cy="4114800"/>
        </p:xfrm>
        <a:graphic>
          <a:graphicData uri="http://schemas.openxmlformats.org/drawingml/2006/table">
            <a:tbl>
              <a:tblPr/>
              <a:tblGrid>
                <a:gridCol w="3392280"/>
                <a:gridCol w="2590920"/>
                <a:gridCol w="25909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phase rever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2 phase reve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t = (m + ½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t = m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different indices of ref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ating on a solar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phase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Fig ex24-09"/>
          <p:cNvPicPr/>
          <p:nvPr/>
        </p:nvPicPr>
        <p:blipFill>
          <a:blip r:embed="rId1"/>
          <a:stretch/>
        </p:blipFill>
        <p:spPr>
          <a:xfrm>
            <a:off x="4633920" y="1905120"/>
            <a:ext cx="4200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D’s and DVD’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is stored digi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ries of ones and zeros read by laser light reflected from the 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reflections correspond to con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flections are chosen to represent z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k reflections correspond to de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flections are chosen to represent 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D’s and Thin Film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D has multiple track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cks consist of a sequence of pits of varying length formed in a reflecting information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its appear as bumps to the laser be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ser beam shines on the metallic layer through a clear plastic co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ding a C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disk rotates, the laser reflects off the sequence of bumps and lower areas into a photod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hotodector converts the fluctuating reflected light intensity into an electrical string of zeros and 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t depth is made equal to one-quarter of the wavelength of th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6" descr="Fig 24-12"/>
          <p:cNvPicPr/>
          <p:nvPr/>
        </p:nvPicPr>
        <p:blipFill>
          <a:blip r:embed="rId1"/>
          <a:stretch/>
        </p:blipFill>
        <p:spPr>
          <a:xfrm>
            <a:off x="4419720" y="2362320"/>
            <a:ext cx="4535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ding a C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laser beam hits a rising or falling bump edge, part of the beam reflects from the top of the bump and part from the lower adjacent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nsures destructive interference and very low intensity when the reflected beams combine at the det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ump edges are read as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at bump tops and intervening flat plains are read as z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VD’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VD’s use shorter wavelength la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ck separation, pit depth and minimum pit length are all sma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DVD can store about 30 times more information than a C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itions for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sustained interference between two sources of light to be observed, there are two conditions which must be 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rces must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h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must maintain a constant phase with respect to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s must have identical wave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uygen’s principle requires that the waves spread out after they pass through sl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preading out of light from its initial line of travel is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, diffraction occurs when waves pass through small openings, around obstacles or by sharp ed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0"/>
          <p:cNvGraphicFramePr/>
          <p:nvPr/>
        </p:nvGraphicFramePr>
        <p:xfrm>
          <a:off x="5126040" y="1905120"/>
          <a:ext cx="3429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905120"/>
                    <a:ext cx="3429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ngle slit placed between a distant light source and a screen produces a diffrac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have a broad, intense central b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band will be flanked by a series of narrower, less intense secondary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secondary max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band will also be flanked by a series of dark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min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s of the single slit cannot be explained by geometric op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metric optics would say that light rays traveling in straight lines should cast a sharp image of the slit on the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5319720" y="0"/>
            <a:ext cx="37479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aunhofer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unhofer Diff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ccurs when the rays leave the diffracting object in paralle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een very far from the sl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ing lens (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ight fringe is seen along the axis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= 0) with alternating bright and dark fringes on each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6" descr="Fig 24-16a"/>
          <p:cNvPicPr/>
          <p:nvPr/>
        </p:nvPicPr>
        <p:blipFill>
          <a:blip r:embed="rId1"/>
          <a:stretch/>
        </p:blipFill>
        <p:spPr>
          <a:xfrm>
            <a:off x="5257800" y="1828800"/>
            <a:ext cx="319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rding to Huygen’s principle, each portion of the slit acts as a source of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from one portion of the slit can interfere with light from another por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ntensity on the screen depends on the dire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6" descr="Fig 24-17"/>
          <p:cNvPicPr/>
          <p:nvPr/>
        </p:nvPicPr>
        <p:blipFill>
          <a:blip r:embed="rId1"/>
          <a:stretch/>
        </p:blipFill>
        <p:spPr>
          <a:xfrm>
            <a:off x="4861080" y="1905120"/>
            <a:ext cx="3951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waves that originate at the slit are i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 1 travels farther than wave 3 by an amount equal to the path difference  (a/2) si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If this path difference is exactly half of a wavelength, the two waves cancel each other and destructive interferenc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general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structive interfere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ccurs for a single slit of width a when si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da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= mλ /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n’t give any information about the variations in intensity along the sc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neral features of the intensity distribution are sh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oad central bright fringe is flanked by much weaker bright fringes alternating with dark fri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of constructive interference lie approximately halfway between the dark fri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6" descr="Fig 24-18"/>
          <p:cNvPicPr/>
          <p:nvPr/>
        </p:nvPicPr>
        <p:blipFill>
          <a:blip r:embed="rId1"/>
          <a:stretch/>
        </p:blipFill>
        <p:spPr>
          <a:xfrm>
            <a:off x="4532400" y="2666880"/>
            <a:ext cx="44593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racting grating consists of many equally spaced parallel sl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ypical grating contains several thousand lines per centi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nsity of the pattern on the screen is the result of the combined effects of interference and diff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dit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xi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 si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b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= m 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0, 1, 2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ger m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rder numb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diffraction pat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incident radiation contains several wavelengths, each wavelength deviates through a specific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6" descr="Fig 24-19"/>
          <p:cNvPicPr/>
          <p:nvPr/>
        </p:nvPicPr>
        <p:blipFill>
          <a:blip r:embed="rId1"/>
          <a:stretch/>
        </p:blipFill>
        <p:spPr>
          <a:xfrm>
            <a:off x="4952880" y="2017800"/>
            <a:ext cx="383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Coherent Sou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from a monochromatic source is allowed to pass through a narrow s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from the single slit is allowed to fall on a screen containing two narrow sl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rst slit is needed to insure the light comes from a tiny region of the source which is coh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he wavelengths are focused at m =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the zeroth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rst order maximum corresponds to m =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e the sharpness of the principle maxima and the broad range of the dark ar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in contrast to the broad, bright fringes characteristic of the two-slit interference pat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6" descr="Fig 24-20"/>
          <p:cNvPicPr/>
          <p:nvPr/>
        </p:nvPicPr>
        <p:blipFill>
          <a:blip r:embed="rId1"/>
          <a:stretch/>
        </p:blipFill>
        <p:spPr>
          <a:xfrm>
            <a:off x="4419720" y="2459160"/>
            <a:ext cx="453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 in CD Trac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iffraction grating can be used in a three-beam method to keep the beam on a CD on tr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maximum of the diffraction pattern is used to read the information on the 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first-order maxima are used for st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Fig 24-23"/>
          <p:cNvPicPr/>
          <p:nvPr/>
        </p:nvPicPr>
        <p:blipFill>
          <a:blip r:embed="rId1"/>
          <a:stretch/>
        </p:blipFill>
        <p:spPr>
          <a:xfrm>
            <a:off x="4419720" y="2286000"/>
            <a:ext cx="45352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of Light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96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atom produces a wave with its own orientation of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directions of the electric field vector are equally possible and lie in a plane perpendicular to the direction of propag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is an unpolarized w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Object 0"/>
          <p:cNvGraphicFramePr/>
          <p:nvPr/>
        </p:nvGraphicFramePr>
        <p:xfrm>
          <a:off x="2895480" y="2666880"/>
          <a:ext cx="3128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128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Picture 11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4574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of Ligh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ve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nearly polar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he resultant electric field vibrates in the same direction at all times at a particular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arization can be obtained from an unpolarized beam b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absor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t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99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elective Absorp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st common technique for polarizing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material that transmits waves whose electric field vectors in the plane are parallel to a certain direction and absorbs waves whose electric field vectors are perpendicular to that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8643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ective Absorp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 H. Land discovered a material that polarizes light through selective absor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called the materia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aro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lecules readily absorb light whose electric field vector is parallel to their lengths and transmit light whose electric field vector is perpendicular to their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ective Absorp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nsity of the polarized beam transmitted through the second polarizing sheet (the analyzer) varies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ntensity of the polarized wave incident on the analy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known 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lus’ L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applies to any two polarizing materials whose transmission axes are at an angle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 to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Refl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unpolarized light beam is reflected from a surface, the reflected light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te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tial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depends on the angle of inci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angle is 0° or 90°, the reflected beam is un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angles between this, there is some degree of polar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one particular angle, the beam is complete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Refle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gle of incidence for which the reflected beam is completely polarize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larizing ang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Brewster’s Law relates the polarizing angle to the index of refraction for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may also be called Brewster’s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2359080" y="4405320"/>
          <a:ext cx="305424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9080" y="4405320"/>
                    <a:ext cx="30542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catte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light is incident on a system of particles, the electrons in the medium can absorb and reradiate part of the l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at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xample of scattering is the sunlight reaching an observer on the earth becoming polari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Coherent Sourc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, it is much more common to use a laser as a coherent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ser produces an intense, coherent, monochromatic beam over a width of several millime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ser light can be used to illuminate multiple slits di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catter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orizontal part of the electric field vector in the incident wave causes the charges to vibrate horizont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part of the vector simultaneously causes them to vibrate vert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rizontally and vertically polarized waves are e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Fig 24-29"/>
          <p:cNvPicPr/>
          <p:nvPr/>
        </p:nvPicPr>
        <p:blipFill>
          <a:blip r:embed="rId1"/>
          <a:stretch/>
        </p:blipFill>
        <p:spPr>
          <a:xfrm>
            <a:off x="6053040" y="2017800"/>
            <a:ext cx="19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ptical 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ain materials display the property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ptical 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ubstance is optically active if it rotates the plane of polarization of transmitted 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activity occurs in a material because of an asymmetry in the shape of its constituent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quid crys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ubstance with properties intermediate between those of a crystalline solid and those of a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lecules of the substance are more orderly than those of a liquid but less than those in a pure crystalline sol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reate a display, the liquid crystal is placed between two glass plates and electrical contacts are made to the liquid crys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oltage is applied across any segment in the display and that segment turns 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tation of a polarized light beam by a liquid crystal when the applied voltage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passes through the polarizer on the right and is reflected back to the observer, who sees the segment as being b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6" descr="Fig 24-32b"/>
          <p:cNvPicPr/>
          <p:nvPr/>
        </p:nvPicPr>
        <p:blipFill>
          <a:blip r:embed="rId1"/>
          <a:stretch/>
        </p:blipFill>
        <p:spPr>
          <a:xfrm>
            <a:off x="2209680" y="1905120"/>
            <a:ext cx="46911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4647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voltage is applied, the liquid crystal does not rotate the plane of pola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is absorbed by the polarizer on the right and none is reflected back to the ob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gment is da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6" descr="Fig 24-32c"/>
          <p:cNvPicPr/>
          <p:nvPr/>
        </p:nvPicPr>
        <p:blipFill>
          <a:blip r:embed="rId1"/>
          <a:stretch/>
        </p:blipFill>
        <p:spPr>
          <a:xfrm>
            <a:off x="1690560" y="2017800"/>
            <a:ext cx="57769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ing the applied voltage in a precise pattern c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ck off the seconds on a w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a letter on a computer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4,7,8,14,18,29,30,46,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Double Slit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mas Young first demonstrated interference in light waves from two sources in 18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s incident on a screen with a narrow slit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waves emerging from this slit arrive at a second screen that contains two narrow, parallel slit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Double Slit Experiment,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rrow slit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t as sources of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s emerging from the slits originate from the same wave front and therefore are always i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Fig 24-01a"/>
          <p:cNvPicPr/>
          <p:nvPr/>
        </p:nvPicPr>
        <p:blipFill>
          <a:blip r:embed="rId1"/>
          <a:stretch/>
        </p:blipFill>
        <p:spPr>
          <a:xfrm>
            <a:off x="4952880" y="1905120"/>
            <a:ext cx="35164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ulting Interference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from the two slits form a visible pattern on a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ttern consists of a series of bright and dark parallel band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i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tructive interfere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a bright fringe app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structive interfere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ults in a dark fri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2:47:11Z</dcterms:created>
  <dc:creator>Brooks/Cole</dc:creator>
  <dc:description/>
  <dc:language>en-US</dc:language>
  <cp:lastModifiedBy>gandella</cp:lastModifiedBy>
  <dcterms:modified xsi:type="dcterms:W3CDTF">2011-03-01T13:16:53Z</dcterms:modified>
  <cp:revision>27</cp:revision>
  <dc:subject/>
  <dc:title>Chapter 24</dc:title>
</cp:coreProperties>
</file>